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6ACB2A3-178B-4359-88EC-ABAC0C7656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172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598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967C6F9-5A36-4EC6-8234-FF01836BC0E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ingle-page_application#cite_note-Flanagan2006-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veebirakenduste tehnolo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ujunduskeel, mitte programmeerimiske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://lambda.ee/wiki/Veebirakend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tvume põhimõtetega loengus tehta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näidete ab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47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lle ette server paneb http-pä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võetakse reeglina k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masoleva failina arvuti ket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ina, mille teeb iga kord uuesti mõni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eebiserveril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ph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i käia kohe eri-veebiserveri sees (java tomc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õi olla eraldi programm, mille server käivi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binatsioonid serverite ahelatega on samuti levin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84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5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äivitame lihtsa serveri: flask (flask.pocoo.org/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stalli Linux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-fl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hello.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turn "Hello World!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"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ivi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_APP=hello.py flask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6640" y="523440"/>
            <a:ext cx="7765920" cy="312840"/>
            <a:chOff x="836640" y="523440"/>
            <a:chExt cx="7765920" cy="312840"/>
          </a:xfrm>
        </p:grpSpPr>
        <p:sp>
          <p:nvSpPr>
            <p:cNvPr id="157" name=""/>
            <p:cNvSpPr/>
            <p:nvPr/>
          </p:nvSpPr>
          <p:spPr>
            <a:xfrm>
              <a:off x="836640" y="82872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2560" y="5234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rveeri faile flaski serveri ab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me väikesed katsefailid katse.txt ja kats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 serveerib faile kataloogis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tati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teeme selle ja kopeerim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kdir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d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txt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html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6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konventsi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kä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6640" y="507600"/>
            <a:ext cx="7765920" cy="312840"/>
            <a:chOff x="836640" y="507600"/>
            <a:chExt cx="7765920" cy="312840"/>
          </a:xfrm>
        </p:grpSpPr>
        <p:sp>
          <p:nvSpPr>
            <p:cNvPr id="167" name=""/>
            <p:cNvSpPr/>
            <p:nvPr/>
          </p:nvSpPr>
          <p:spPr>
            <a:xfrm>
              <a:off x="836640" y="8146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ata.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data.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 "Hello World!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show', methods=['POST', 'GET'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cgi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={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eys=request.args.key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key in key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[key]=request.args.get(ke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(str(inparams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cgi/show?a=1&amp;b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7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.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', methods=['POST', 'GET'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=request.args.get(“a“,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b=request.args.get(“b“,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turn(str(int(a)+int(b)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://127.0.0.1:5000/cgi/sum?a=1&amp;b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77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va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ebGL graaf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anv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ideo ja aud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ikesed andmebaasi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46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8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oe: http://www.w3schools.com/ht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Ametlik standard on HTML5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87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lassikaline veebirak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erver saadab brauserile html tek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asutaja täidab vormid/vajutab nupp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saadab serverile sisestatud parameetrid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Bitstream Vera Sans"/>
              </a:rPr>
              <a:t>Server arvutab parameetrite järgi uue html tek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kuvab uue html tekst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ne 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9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Veebirakend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ruttavalt: baas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http abil faili tõmm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fo saatmine serverile: cgi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lassikaline veebirakendus: server ehitab html tek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ngle-page ap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ehitab datat: json tek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 brauseris muudab/ehitab html teksti otse brauseri kõh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hnoloogiast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080" y="371520"/>
            <a:ext cx="7767720" cy="317520"/>
            <a:chOff x="838080" y="371520"/>
            <a:chExt cx="7767720" cy="317520"/>
          </a:xfrm>
        </p:grpSpPr>
        <p:sp>
          <p:nvSpPr>
            <p:cNvPr id="59" name=""/>
            <p:cNvSpPr/>
            <p:nvPr/>
          </p:nvSpPr>
          <p:spPr>
            <a:xfrm>
              <a:off x="838080" y="681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05800" y="371520"/>
              <a:ext cx="0" cy="3175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app.py       </a:t>
            </a:r>
            <a:r>
              <a:rPr b="0" lang="et-EE" sz="2400" spc="-1" strike="noStrike">
                <a:solidFill>
                  <a:srgbClr val="000099"/>
                </a:solidFill>
                <a:latin typeface="Bitstream Vera Sans"/>
              </a:rPr>
              <a:t>http://127.0.0.1:5000/cgi/sumapp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@app.route('/cgi/sumapp', methods=['POST', 'GET'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def myapp(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=request.args.get("a"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=request.args.get("b"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="sum is: "+str(int(a)+int(b))+"&lt;p&gt;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s=""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form action='/cgi/sumapp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 &lt;input type='text' name='a'&gt; &lt;b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 &lt;input type='text' name='b'&gt; 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input type='submit' value='calculate!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""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if a and b: res=r+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else: res=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eturn(r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6800" y="549360"/>
            <a:ext cx="7765920" cy="312480"/>
            <a:chOff x="766800" y="549360"/>
            <a:chExt cx="7765920" cy="312480"/>
          </a:xfrm>
        </p:grpSpPr>
        <p:sp>
          <p:nvSpPr>
            <p:cNvPr id="197" name=""/>
            <p:cNvSpPr/>
            <p:nvPr/>
          </p:nvSpPr>
          <p:spPr>
            <a:xfrm>
              <a:off x="766800" y="85392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532720" y="54936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äpset teksti paigutust ja kujundust võimaldav keel HTML täiendus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0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0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ingle-page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ikipedia ütleb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single-page application (SPA) is a web application or web site that interacts with the user by dynamically rewriting the current page rather than loading entire new pages from a serv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s approach avoids interruption of the user experience between successive pages, making the application behave more like a desktop applic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an SPA, either all necessary code – HTML, JavaScript, and CSS – is retrieved with a single page load,</a:t>
            </a:r>
            <a:r>
              <a:rPr b="0" lang="en-US" sz="1800" spc="-1" strike="noStrike" u="sng" baseline="30000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or the appropriate resources are dynamically loaded and added to the page as necess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1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sum.html rehkendus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 otse brause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javascript!'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r a,b,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s=String(parseInt(a)+parseInt(b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523440"/>
            <a:ext cx="7764480" cy="312840"/>
            <a:chOff x="838080" y="523440"/>
            <a:chExt cx="7764480" cy="312840"/>
          </a:xfrm>
        </p:grpSpPr>
        <p:sp>
          <p:nvSpPr>
            <p:cNvPr id="227" name=""/>
            <p:cNvSpPr/>
            <p:nvPr/>
          </p:nvSpPr>
          <p:spPr>
            <a:xfrm>
              <a:off x="838080" y="82872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2560" y="5234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JAX: 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ynchronous qu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+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,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3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2sum.html  ajaxiga: rehkendus on server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ajax!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var a,b,ur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url="/cgi/sum?a="+a+"&amp;b="+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fetch(url,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handleresult(r)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507600"/>
            <a:ext cx="7764480" cy="312840"/>
            <a:chOff x="838080" y="507600"/>
            <a:chExt cx="7764480" cy="312840"/>
          </a:xfrm>
        </p:grpSpPr>
        <p:sp>
          <p:nvSpPr>
            <p:cNvPr id="241" name=""/>
            <p:cNvSpPr/>
            <p:nvPr/>
          </p:nvSpPr>
          <p:spPr>
            <a:xfrm>
              <a:off x="838080" y="8146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296640"/>
            <a:ext cx="7769160" cy="314280"/>
            <a:chOff x="914400" y="296640"/>
            <a:chExt cx="7769160" cy="314280"/>
          </a:xfrm>
        </p:grpSpPr>
        <p:sp>
          <p:nvSpPr>
            <p:cNvPr id="246" name="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3560" y="296640"/>
              <a:ext cx="0" cy="3142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uktureeritud teksti esitamise forma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ML standard ütleb, kuidas teksti struktuuri märgis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b kasutada andmete esitamiseks teks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aga veidi kohmakas kasut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eerimisk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51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eks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i programmeerimiskeele „native“ andmestruktu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ja mugav kasut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eerimisk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5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tteruttavalt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371520"/>
            <a:ext cx="7767720" cy="317520"/>
            <a:chOff x="838080" y="371520"/>
            <a:chExt cx="7767720" cy="317520"/>
          </a:xfrm>
        </p:grpSpPr>
        <p:sp>
          <p:nvSpPr>
            <p:cNvPr id="64" name=""/>
            <p:cNvSpPr/>
            <p:nvPr/>
          </p:nvSpPr>
          <p:spPr>
            <a:xfrm>
              <a:off x="838080" y="681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05800" y="371520"/>
              <a:ext cx="0" cy="3175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971800" y="5638680"/>
            <a:ext cx="3578400" cy="454320"/>
            <a:chOff x="2971800" y="5638680"/>
            <a:chExt cx="3578400" cy="454320"/>
          </a:xfrm>
        </p:grpSpPr>
        <p:sp>
          <p:nvSpPr>
            <p:cNvPr id="67" name="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71800" y="5029200"/>
            <a:ext cx="3578400" cy="453960"/>
            <a:chOff x="2971800" y="5029200"/>
            <a:chExt cx="3578400" cy="453960"/>
          </a:xfrm>
        </p:grpSpPr>
        <p:sp>
          <p:nvSpPr>
            <p:cNvPr id="70" name="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95480" y="4038480"/>
            <a:ext cx="3578400" cy="530280"/>
            <a:chOff x="2895480" y="4038480"/>
            <a:chExt cx="3578400" cy="530280"/>
          </a:xfrm>
        </p:grpSpPr>
        <p:sp>
          <p:nvSpPr>
            <p:cNvPr id="73" name="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33720" y="2666880"/>
            <a:ext cx="1596960" cy="758880"/>
            <a:chOff x="2133720" y="2666880"/>
            <a:chExt cx="1596960" cy="758880"/>
          </a:xfrm>
        </p:grpSpPr>
        <p:sp>
          <p:nvSpPr>
            <p:cNvPr id="76" name="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562720" y="2743200"/>
            <a:ext cx="1596960" cy="758880"/>
            <a:chOff x="5562720" y="2743200"/>
            <a:chExt cx="1596960" cy="758880"/>
          </a:xfrm>
        </p:grpSpPr>
        <p:sp>
          <p:nvSpPr>
            <p:cNvPr id="79" name="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19320" y="1600200"/>
            <a:ext cx="1063440" cy="682560"/>
            <a:chOff x="1219320" y="1600200"/>
            <a:chExt cx="1063440" cy="682560"/>
          </a:xfrm>
        </p:grpSpPr>
        <p:sp>
          <p:nvSpPr>
            <p:cNvPr id="82" name="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600200"/>
            <a:ext cx="1063800" cy="682560"/>
            <a:chOff x="2438280" y="1600200"/>
            <a:chExt cx="1063800" cy="682560"/>
          </a:xfrm>
        </p:grpSpPr>
        <p:sp>
          <p:nvSpPr>
            <p:cNvPr id="85" name="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600200"/>
            <a:ext cx="1063800" cy="682560"/>
            <a:chOff x="3657600" y="1600200"/>
            <a:chExt cx="1063800" cy="682560"/>
          </a:xfrm>
        </p:grpSpPr>
        <p:sp>
          <p:nvSpPr>
            <p:cNvPr id="88" name="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334120" y="1600200"/>
            <a:ext cx="1063440" cy="682560"/>
            <a:chOff x="5334120" y="1600200"/>
            <a:chExt cx="1063440" cy="682560"/>
          </a:xfrm>
        </p:grpSpPr>
        <p:sp>
          <p:nvSpPr>
            <p:cNvPr id="91" name="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05720" y="1600200"/>
            <a:ext cx="1063440" cy="682560"/>
            <a:chOff x="6705720" y="1600200"/>
            <a:chExt cx="1063440" cy="682560"/>
          </a:xfrm>
        </p:grpSpPr>
        <p:sp>
          <p:nvSpPr>
            <p:cNvPr id="94" name="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066680" y="4025520"/>
            <a:ext cx="838440" cy="13208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187440" y="3492000"/>
            <a:ext cx="406440" cy="4064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568320"/>
            <a:ext cx="38124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29400" y="2349360"/>
            <a:ext cx="38088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06960" y="2349360"/>
            <a:ext cx="17784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120760" y="2273040"/>
            <a:ext cx="17784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2349360"/>
            <a:ext cx="1800" cy="2541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2273040"/>
            <a:ext cx="30492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4635360"/>
            <a:ext cx="144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5473800"/>
            <a:ext cx="1440" cy="1778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16440" y="5334120"/>
            <a:ext cx="863640" cy="14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cap="sq" w="25560">
            <a:solidFill>
              <a:srgbClr val="3333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2273400"/>
            <a:ext cx="609840" cy="6350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762120"/>
            <a:ext cx="78487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296640"/>
            <a:ext cx="7769160" cy="314280"/>
            <a:chOff x="914400" y="296640"/>
            <a:chExt cx="7769160" cy="314280"/>
          </a:xfrm>
        </p:grpSpPr>
        <p:sp>
          <p:nvSpPr>
            <p:cNvPr id="261" name="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3560" y="296640"/>
              <a:ext cx="0" cy="3142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905120" y="3962520"/>
            <a:ext cx="453960" cy="530280"/>
            <a:chOff x="1905120" y="3962520"/>
            <a:chExt cx="453960" cy="530280"/>
          </a:xfrm>
        </p:grpSpPr>
        <p:sp>
          <p:nvSpPr>
            <p:cNvPr id="264" name=""/>
            <p:cNvSpPr/>
            <p:nvPr/>
          </p:nvSpPr>
          <p:spPr>
            <a:xfrm>
              <a:off x="1905120" y="3962520"/>
              <a:ext cx="453960" cy="5302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5080" y="41194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82680" y="41194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08080" y="4344840"/>
              <a:ext cx="249480" cy="478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cap="sq"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52880" y="3265560"/>
            <a:ext cx="1447920" cy="784080"/>
          </a:xfrm>
          <a:prstGeom prst="line">
            <a:avLst/>
          </a:prstGeom>
          <a:ln cap="sq"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cap="sq"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ront-end tehnoloogiastack on päris keerul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38080" y="507600"/>
            <a:ext cx="7764480" cy="312840"/>
            <a:chOff x="838080" y="507600"/>
            <a:chExt cx="7764480" cy="312840"/>
          </a:xfrm>
        </p:grpSpPr>
        <p:sp>
          <p:nvSpPr>
            <p:cNvPr id="282" name=""/>
            <p:cNvSpPr/>
            <p:nvPr/>
          </p:nvSpPr>
          <p:spPr>
            <a:xfrm>
              <a:off x="838080" y="8146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14600" y="890640"/>
            <a:ext cx="4835520" cy="5967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a back-end (serverirakendus) samu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89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9520" y="884160"/>
            <a:ext cx="4114800" cy="5973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TCP pe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json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6200" y="2579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1520" y="3735360"/>
            <a:ext cx="1939680" cy="1919160"/>
            <a:chOff x="6851520" y="3735360"/>
            <a:chExt cx="1939680" cy="1919160"/>
          </a:xfrm>
        </p:grpSpPr>
        <p:sp>
          <p:nvSpPr>
            <p:cNvPr id="117" name=""/>
            <p:cNvSpPr/>
            <p:nvPr/>
          </p:nvSpPr>
          <p:spPr>
            <a:xfrm>
              <a:off x="6851520" y="3753000"/>
              <a:ext cx="1891800" cy="1901520"/>
            </a:xfrm>
            <a:custGeom>
              <a:avLst/>
              <a:gdLst>
                <a:gd name="textAreaLeft" fmla="*/ 360 w 1891800"/>
                <a:gd name="textAreaRight" fmla="*/ 1891440 w 1891800"/>
                <a:gd name="textAreaTop" fmla="*/ 360 h 1901520"/>
                <a:gd name="textAreaBottom" fmla="*/ 1901160 h 1901520"/>
              </a:gdLst>
              <a:ahLst/>
              <a:rect l="textAreaLeft" t="textAreaTop" r="textAreaRight" b="textAreaBottom"/>
              <a:pathLst>
                <a:path w="21600" h="21711">
                  <a:moveTo>
                    <a:pt x="21" y="0"/>
                  </a:moveTo>
                  <a:arcTo wR="21" hR="21" stAng="16200000" swAng="-5400000"/>
                  <a:lnTo>
                    <a:pt x="0" y="21690"/>
                  </a:lnTo>
                  <a:arcTo wR="21" hR="21" stAng="10800000" swAng="-5400000"/>
                  <a:lnTo>
                    <a:pt x="21579" y="21711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9400" y="3735360"/>
              <a:ext cx="1891800" cy="1901880"/>
            </a:xfrm>
            <a:custGeom>
              <a:avLst/>
              <a:gdLst>
                <a:gd name="textAreaLeft" fmla="*/ 360 w 1891800"/>
                <a:gd name="textAreaRight" fmla="*/ 1891440 w 189180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1715">
                  <a:moveTo>
                    <a:pt x="21" y="0"/>
                  </a:moveTo>
                  <a:arcTo wR="21" hR="21" stAng="16200000" swAng="-5400000"/>
                  <a:lnTo>
                    <a:pt x="0" y="21694"/>
                  </a:lnTo>
                  <a:arcTo wR="21" hR="21" stAng="10800000" swAng="-5400000"/>
                  <a:lnTo>
                    <a:pt x="21579" y="21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või saada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andme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17600" y="2754360"/>
            <a:ext cx="2019240" cy="127692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rgule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võ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muid andm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476160" y="3046320"/>
            <a:ext cx="3165480" cy="9288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78320" y="3735360"/>
            <a:ext cx="3162240" cy="957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esmajoone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line käsk serveril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hrome, firefox, curl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mas saab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le kaasa anda teksti kujul andmeid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d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server siis salvestab ja/või rehkendab nende järgi va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7800" y="2147760"/>
            <a:ext cx="228600" cy="236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880" y="4948200"/>
            <a:ext cx="480960" cy="317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26560" y="5137200"/>
            <a:ext cx="609480" cy="1371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98160" y="419724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http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äring on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rüpteeritud variant http päringus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äring ise ja vastus krüpteeritakse võtmeg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is automaatselt genereeritakse iga ühenduse jao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29440" cy="6126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380880"/>
            <a:ext cx="77612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urealt curl programmiga (teine variant salvestab http päis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 -i  &gt; ajut.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i programm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mport urllib.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 =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rllib.request.urlopen('http:/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'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tml =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.rea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rint(htm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4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10-21T13:38:36Z</dcterms:modified>
  <cp:revision>63</cp:revision>
  <dc:subject/>
  <dc:title> </dc:title>
</cp:coreProperties>
</file>